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1434-9E09-4D6E-B8FF-904661380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F03F-02C6-44B0-A682-AC6310569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6710-29B9-4FEC-B49E-0B366B0D8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743F-C111-442F-931A-9E978B614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EF87-30FA-4251-BF06-314B20A01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E78C-1C6C-4292-AF97-E2D110090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45DE-603D-49C8-9E68-892BD64EF6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335F-31CD-4EE4-B2F9-680D4D237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23DD-1129-41F3-98AB-F56E905912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5ECE8-0897-4C3E-9D09-BC05D78684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1B2F-80D3-450E-B3D3-AF35B0259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9C8D-928A-46AE-BE25-BC468A0EA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391E-BC71-420F-B089-87E5AA096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21FF-1AFC-487F-A3F6-1E19F0D5BE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6A10-B023-425B-AE42-216DB06DFB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3172-8255-4F99-A0EA-50C0372A3C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3873-4036-4D14-95FE-5647EEE79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9CFE-26CB-44C8-9297-1BD451DBA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6DF0-D1AA-4B80-A757-6390C453D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0E79-9A25-46EC-8EF6-959B9E80A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066F-7AD1-4A45-9926-D5DBC055D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EB10-6EEE-45A1-A686-496ECA255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84CD-29E6-44D4-9D85-2F68514FB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0CCF-9E7D-4441-BC93-ADBB72582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29CC-3093-45EB-892C-7CB2018082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E9EC-7789-4029-98EA-6820526910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360" y="3392640"/>
            <a:ext cx="8172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3 — Formatting Tex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D017-6AAC-4247-8FBC-7A71F9FF86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Sty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nt Sty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set of formatting features that can be applied to text to change its appeara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common font sty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l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nder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ta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C487-86A5-44E0-A6DD-4110BA257D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Style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the font style, click the buttons on the Formatting toolbar,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4437000"/>
            <a:ext cx="230508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6734-CD16-47DE-8249-236FC04FDA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Siz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nt 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determined by measuring the height of characters in units called points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o change font size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, F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or use the Font Size box on the Formatt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92720" y="4724280"/>
            <a:ext cx="122580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E0DD-3CD8-40F5-A46D-6515D531F8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Colo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the color of text, select the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, choose col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lso choose a color from formatting toolbar (A button with color b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27680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23AA-E391-4C1A-967F-C06E584646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Color Palet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0" y="2600280"/>
            <a:ext cx="3008520" cy="370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58C0-F3D1-446E-9E65-AA51603770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nging Underline Style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nd Colo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drop-down box for Underline Style &amp; Underline Col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F03E-8149-42DD-A63E-D07B362CA2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nderline Styl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16000" y="3249720"/>
            <a:ext cx="5077080" cy="23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73E1-D2C4-450A-8594-BB2872491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Effec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 effects enhance your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lick Effects T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fte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nt Dialog B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06B1-4D62-477B-A5A4-72D19576FC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Effec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68360" y="2362320"/>
            <a:ext cx="4535640" cy="398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63F6-8131-47AC-90D8-C0BBE6C40F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ighlight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ighligh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emphasizes text with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text ,click the down arrow on the Highlight button on the Formatt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85080" y="40417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24360" y="4365720"/>
            <a:ext cx="1297080" cy="95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8592-B4C7-4714-858C-504632332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different fonts and font styles to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ize and color of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different underline styles and fon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ligh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C1D2-A8A1-4BCF-A56B-BEF773260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ighlighting Color Palet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66920" y="2744640"/>
            <a:ext cx="3003840" cy="33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F810-4925-4736-8CA7-0C461A01AE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pying Format and Sty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mat Pain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copies the format and style of a block of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formatted text to be copied. Click the Format Painter button, then select the text that you want to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36572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0360" y="5265720"/>
            <a:ext cx="112572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034F-C76E-43ED-B3E4-10EF5E20E2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pplying Styl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y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predefined set of formatting options that have been named and sav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pply a style, select the text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Styles/Formatting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click the AA butt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n the formatting toolb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lso create and apply styles using the Styles and Formatting task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103C-533E-43C4-9364-078AAD1774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41680" y="841680"/>
            <a:ext cx="776484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tyle Box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tyles and Formatting Task Pan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27640" y="2529000"/>
            <a:ext cx="1684440" cy="370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835280" y="3392640"/>
            <a:ext cx="2720880" cy="63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C967-8203-42E8-8FD9-7AA67FAE23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racter Spac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aracter Spac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controls the amount of space between each lett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character spacing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ick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haracter Spacing tab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Font dialog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2FB0-8740-4392-A02E-A6339F960A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nts are designs of type that can change the appearance of a doc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ommon font styles are bold, italic, and underlin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nt size is measured in poi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olor of text, style of underline, color of underline, and font effects can be changed in the Font dialog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EC92-762C-4C48-B509-A7C58439D7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Highlights can be used to emphasize important tex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 Painter copies the format and style of tex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Styles are a predefined set of formatting options that save time and add consistency to a docume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The space between characters can be adjusted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3C2C-6D82-46C0-9B37-18DDE093D5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py formats using the Format Pai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and clear sty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character spa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E0D1-C92D-4B2B-A960-1A2527D29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34560" y="2312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l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y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gg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BF98-B973-4154-8441-1044A46AC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mat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rranging the shape, size, type, and general makeup of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format: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lso use the buttons on the formatting toolb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5265720"/>
            <a:ext cx="7451640" cy="5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1D44-9F44-492E-B81B-560EB5BB44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00240" y="2421000"/>
            <a:ext cx="3635640" cy="396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0360" y="2529000"/>
            <a:ext cx="1403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t Ty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t Siz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ecial Eff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racter Spac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xt Eff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derline Sty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AEFC-7DE0-4DDA-B6A8-DE3AD70286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s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n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designs of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43280" y="2960640"/>
            <a:ext cx="499104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EEBA-D095-4DC0-A494-308F980C2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nging the Fo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pply a new font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lso use the Font drop down box(es) on Formatting toolb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B358-1F49-405E-8B47-0FFCB6EDB2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Box on Formatting Toolba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3694320" cy="361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47AA-2FAA-4BDC-ABEF-D6A401B193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k Co.</dc:creator>
  <dc:description/>
  <dc:language>en-US</dc:language>
  <cp:lastModifiedBy>LDSD</cp:lastModifiedBy>
  <dcterms:modified xsi:type="dcterms:W3CDTF">2009-10-06T17:09:27Z</dcterms:modified>
  <cp:revision>90</cp:revision>
  <dc:subject/>
  <dc:title>Microsoft Office XP: Introduc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Virginia Ewbank</vt:lpwstr>
  </property>
</Properties>
</file>